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B8C96-0E44-406B-B2E1-D1619C32F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6F677-F6EF-4D62-9ABE-BDAC4F636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28854-7679-4823-A61F-4FCDA87F0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B8D8C-E8CA-42EC-ABA8-3C2F60860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2C506-DD6B-44C8-B7DF-A7CC3819A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49E1B-B823-4B6D-9CBC-5D36A1A55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B5D5F-5B38-4AE8-9DD7-F2A5FAB11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C0AD8-98B2-4013-B234-925273674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8598B-F991-44CE-8544-15EA7CFE9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E91C5-588E-47AF-A9A4-A57EABEB2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57963-56E0-4520-9B2D-2F8782843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AC8D0-6492-455F-B2C3-260C9C5FA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112F-E217-49DA-8BA5-BDB24ABE3D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C:\Users\Guest\Desktop\comp_i.jpg"/>
          <p:cNvPicPr/>
          <p:nvPr/>
        </p:nvPicPr>
        <p:blipFill>
          <a:blip r:embed="rId1"/>
          <a:stretch/>
        </p:blipFill>
        <p:spPr>
          <a:xfrm>
            <a:off x="5334120" y="1828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08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